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B0E-67CC-4EDC-A94B-F2F699F1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4DC-5FCC-42F3-99E0-9EF2F97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8F0-9F96-49EE-A489-66C87B71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0CF-8394-466B-98CE-DD274ABC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7B3-2EAA-4ABC-B779-442D95E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74C-9743-4A38-9661-2E79268F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914-5B7B-4203-B00B-B7ADC3DE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E53-F3CA-4DFD-B2D5-631DA44F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86D-7D84-4D93-AFF3-E69EF0D1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9FA-7DEB-456E-8E0D-31F855F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96B-74CD-46DE-BA2E-FAAA439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DC-B497-4F68-99E6-E9A6BB6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7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3271-B9F2-4866-82D8-44208E73A70B}" type="slidenum">
              <a:rPr b="1" lang="ru-RU" sz="1400" spc="-1" strike="noStrike">
                <a:solidFill>
                  <a:srgbClr val="fffff7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2274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a_Algerius"/>
              </a:rPr>
              <a:t>Социология культуры </a:t>
            </a:r>
            <a:endParaRPr b="1" lang="en-US" sz="6600" spc="-1" strike="noStrike">
              <a:solidFill>
                <a:srgbClr val="a50021"/>
              </a:solidFill>
              <a:latin typeface="Century Gothic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entury Gothic"/>
              </a:rPr>
              <a:t>«Кёльнская» школа Гребнера (Теория культурных кругов)</a:t>
            </a:r>
            <a:endParaRPr b="1" lang="en-US" sz="4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499760"/>
            <a:ext cx="3071880" cy="207180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ГРЕБНЕР Фриц (1877—1934), немецкий этнограф, основатель культурно-исторической школы, создатель теории «культурных кругов»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14480" y="1499760"/>
            <a:ext cx="5072040" cy="500076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173880" indent="-1616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В рамках диффузионистской теории развивалась теория культурных кругов (Kulturkreiselehre) Фрица Гребнера. В своих работах, посвящённых культуре Австралии и Океании, он отстаивал идею неизменности форм предметов и их географического распространения. Гребнер также был убеждён, что каждый элемент культуры изобретали только один раз и в одном месте, а оттуда этот элемент распространялся по другим регионам Земли. Опираясь на музейные коллекции, Гребнер выделил восемь культурных кругов, каждый из которых отличался своим собственным конгломератом предметов материальной культуры, обрядов, верований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6" name="Содержимое 11" descr="Фриц Гребнер.jp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1000080" y="3643200"/>
            <a:ext cx="1571760" cy="2264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58284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entury Gothic"/>
              </a:rPr>
              <a:t>Венская школа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2920" y="857160"/>
            <a:ext cx="5500800" cy="585792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880" indent="-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Согласно представлениям Шмидта, старейшая культура человечества (которую он называл пракультурой - Urkultur) - это культура охотников-собирателей, останки которой находятся среди пигмеев и пигмоидов, также как и в арктической области Америки и юговосточной Австралии. Из этой пракультуры возникли, независимо друг от друга, три «главных культуры»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80" indent="-288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культура, основанная на выращивании растений, связанная с матриархатом и развитием сбора растений женщинами,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80" indent="-288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«высокая охотничья культура», контролируемая мужчинами и связанная с тотемизмом, и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80" indent="-288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атриархальная пастушечья культура, основанная на кочевом хозяйстве.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880" indent="-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Каждый из трех первоначальных «культурных кругов», выделенных Шмидтом, возник, по его взгляду, только в данной географической области и затем распространился посредством миграции. Вследствие смешивания первичных культур возникают вторичные и третичные культуры, которые в свою очередь дают возникновение новым культурам.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43360" y="928440"/>
            <a:ext cx="3500280" cy="185724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Вильгельм Шмидт — этнограф, социолог, лингвист, религиовед. Католический священник, миссионер Общества Слова Божьего. Родился 16 февраля 1868, Хёрде — 10 февраля 1954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0" name="Содержимое 6" descr="Вильгельм Шмидт.jpg"/>
          <p:cNvPicPr/>
          <p:nvPr/>
        </p:nvPicPr>
        <p:blipFill>
          <a:blip r:embed="rId2">
            <a:alphaModFix amt="70000"/>
          </a:blip>
          <a:srcRect l="2276" t="1607" r="4552" b="8554"/>
          <a:stretch/>
        </p:blipFill>
        <p:spPr>
          <a:xfrm>
            <a:off x="5715000" y="2857680"/>
            <a:ext cx="2786040" cy="3805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entury Gothic"/>
              </a:rPr>
              <a:t>Критика диффузионизма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торонники неоэволюционизма и марксизма видят главным недостатком диффузионизма отрицание каких-либо эволюционных закономерностей в развитии общества и культуры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трыв или даже, как в теории Фробениуса, полное отрицание зависимости культуры от человека и народа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Учёными многих направлений впоследствии был признан натянутый характер существования культурных кругов. В некоторых случаях, например в теории культурных кругов Гребнера, существование культурных кругов считается домыслом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читается ложной попытка диффузионизма связывать одинаковые явления культуры, которые пространственно могут находиться даже в разных частях света, общностью географического происхождения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 1920-х годах диффузионистское направление начало терять популярность и окончательно перестало пополнять свои ряды сторонников 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_Algerius"/>
              </a:rPr>
              <a:t>Спасибо за внимание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_Algerius"/>
              </a:rPr>
              <a:t>эволюционизм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_Algeriu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_Algerius"/>
              </a:rPr>
              <a:t>это первая этнографическая теория, которая начала формироваться в середине XIX века. Основоположником эволюционизма считается Эдуард Тайлор, впервые выразивший свои эволюционистские идеи в книге «Исследования в области древней истории человечества» (1865). Поэтому именно его многие исследователи и считают основоположником эволюционизма.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" name="Содержимое 4" descr="Edward_Burnett_Tylor.jp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4998960" y="1600200"/>
            <a:ext cx="3336840" cy="452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396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_Algerius"/>
              </a:rPr>
              <a:t>Среди последователей этой школы также  Генри Льюис Морган и Джеймс джордж Фрэзер</a:t>
            </a:r>
            <a:endParaRPr b="1" lang="en-US" sz="2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1285920"/>
            <a:ext cx="4497480" cy="92880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b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Выдающийся американский учёный, этнограф, социолог, историк. Родился 21 ноября 1818, деревня Аврора штата Нью-Йорк — 17 декабря 1881г.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одержимое 4" descr="Генри Льюис Морган.jp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714240" y="2286000"/>
            <a:ext cx="3214800" cy="4344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356000" cy="107136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b">
            <a:normAutofit fontScale="9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Английский антрополог, культуролог, фольклорист и историк религии, представитель классической английской социальной антропологии. Родился 1 января 1854, Глазго, Шотландия — 7 мая 1941г.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" name="Содержимое 5" descr="Джеймс Джордж Фрэзер.jpg"/>
          <p:cNvPicPr/>
          <p:nvPr/>
        </p:nvPicPr>
        <p:blipFill>
          <a:blip r:embed="rId3">
            <a:alphaModFix amt="70000"/>
          </a:blip>
          <a:stretch/>
        </p:blipFill>
        <p:spPr>
          <a:xfrm>
            <a:off x="5143680" y="2357280"/>
            <a:ext cx="3358800" cy="4199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entury Gothic"/>
              </a:rPr>
              <a:t>Основные положения эволюционизма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Классическая эволюционистская теория настаивала на существовании универсального закона развития человеческих культур.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Человеческий род един, поэтому все люди имеют примерно одни и те же умственные способности и в сходных ситуациях будут принимать примерно аналогичные решения, что в свою очередь определяет единообразие культуры на сходных ступенях развития;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В человеческом обществе имеет место непрерывное развитие, то есть прямолинейный процесс перехода от простого ко все более сложному. Таким образом общественное развитие идёт по законам эволюции;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13840"/>
            <a:ext cx="8400960" cy="628668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Развитие любого культурного элемента изначально предопределено, так как его более поздние формы формируются и зарождаются в более ранних. При этом развитие любой культуры многоступенчато, а ступени и стадии развития едины для всех культур в мире;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Культурные различия народов вызваны их различными ступенями развития, а все народы и все культуры соединены между собой в один непрерывный и прогрессивно развивающийся эволюционный ряд.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Первобытное общество, с точки зрения эволюционистов, имело единые для всех народов социальные, культурные и экономические модели. А современные бесписьменные народы рассматривались как пережиток древних времён. Предполагалось, что изучение их культуры ведет к реконструкции культуры первобытного общества в целом.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164304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entury Gothic"/>
              </a:rPr>
              <a:t>По мере дальнейшего развития науки и соответственно накопления новых фактических данных к концу XIX века все в большей мере стали проявляться слабые стороны эволюционизма, вступившие в противоречие с фактами реальной жизни. Собранный новый этнографический материал часто не подтверждал эволюционистские положения</a:t>
            </a:r>
            <a:r>
              <a:rPr b="1" lang="ru-RU" sz="2000" spc="-1" strike="noStrike">
                <a:solidFill>
                  <a:srgbClr val="a50021"/>
                </a:solidFill>
                <a:latin typeface="Century Gothic"/>
              </a:rPr>
              <a:t>.</a:t>
            </a:r>
            <a:endParaRPr b="1" lang="en-US" sz="20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120" y="1928880"/>
            <a:ext cx="8501040" cy="452592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ипотеза о единой логике исторического процесса не соответствовала философским установкам позитивистов и сторонников других течений. Некоторые критики эволюционизма обращали внимание на абстрактность концепции универсального закона развития человеческих культур и утверждали о существовании лишь отдельных процессов (миграция, урбанизация и т. д.). Те же, кто признавал существование исторических моделей, ограничивал их эпохой, народом или страной и т. д., отказывались признавать существование глобальных исторических законов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итики обращали внимание на пренебрежение эволюционистами фактами многочисленных кризисов, полных коллапсов государств и цивилизаций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Сторонники культурного релятивизма указывали на уникальность каждого этноса и в связи с этим невозможность ранжировать их по единой шкале дифференциации, зрелости или прогрессивности. С этой позиции многие незападные общества, которые могут показаться европейцам отсталыми, таковыми не являются, они просто отличны от западных.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Диффузионисты указывали на игнорирование эволюционистами факта влияния прямого вмешательства (колонизация, завоевание, миграции, демонстративные эффекты и т. д.) на процессы социальных изменений. Так как в результате вышеуказанных процессов часто происходит пропуск или ускоренное прохождение стадий развития общества.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_Algerius"/>
              </a:rPr>
              <a:t>диффунианизм</a:t>
            </a:r>
            <a:endParaRPr b="1" lang="en-US" sz="44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643560" cy="92880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ридрих Ратцель родился 30 августа 1844, Карлсруэ — 9 августа 1904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8" name="Содержимое 4" descr="Фридрих Ратцель.jpg"/>
          <p:cNvPicPr/>
          <p:nvPr/>
        </p:nvPicPr>
        <p:blipFill>
          <a:blip r:embed="rId2">
            <a:alphaModFix amt="70000"/>
          </a:blip>
          <a:srcRect l="8605" t="0" r="7479" b="4920"/>
          <a:stretch/>
        </p:blipFill>
        <p:spPr>
          <a:xfrm>
            <a:off x="357120" y="2500200"/>
            <a:ext cx="3618000" cy="414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9" name=""/>
          <p:cNvSpPr txBox="1"/>
          <p:nvPr/>
        </p:nvSpPr>
        <p:spPr>
          <a:xfrm>
            <a:off x="4071960" y="1500120"/>
            <a:ext cx="4857840" cy="514368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ервым учёным, написавшим свои работы в духе диффузионизма, был немецкий учёный, географ и этнолог Фридрих Ратцель, создатель антропогеографической школы. По мнению Ратцеля, ведущую роль в формировании той или иной культуры играет географическая среда, к которой приспосабливаются, адаптируются человеческие общества. Основополагающий фактор истории культуры человека Ратцель видел в передвижениях народов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a50021"/>
                </a:solidFill>
                <a:latin typeface="Century Gothic"/>
              </a:rPr>
              <a:t>Ле́о Фробе́ниус</a:t>
            </a:r>
            <a:r>
              <a:rPr b="1" lang="ru-RU" sz="1800" spc="-1" strike="noStrike">
                <a:solidFill>
                  <a:srgbClr val="a50021"/>
                </a:solidFill>
                <a:latin typeface="Century Gothic"/>
              </a:rPr>
              <a:t> — немецкий этнограф-африканист, археолог, сторонник диффузионистской теории, автор теории «морфологии культуры». Родился 29 июня 1873, Берлин, — 9 августа 1938г.</a:t>
            </a:r>
            <a:endParaRPr b="1" lang="en-US" sz="1800" spc="-1" strike="noStrike">
              <a:solidFill>
                <a:srgbClr val="a50021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571400"/>
            <a:ext cx="5786640" cy="5043240"/>
          </a:xfrm>
          <a:prstGeom prst="rect">
            <a:avLst/>
          </a:prstGeom>
          <a:solidFill>
            <a:srgbClr val="ffffff">
              <a:alpha val="70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179280" indent="-1666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Лео Фробениус в своей теории на первое место поставил культуру, а человек, как её носитель, отходил на второй план, он был лишь продуктом  культуры. Человек же у Фробениуса является лишь её «носильщиком»,, но не её творцом. В его варианте культурные круги назывались культурными провинциями. Он сравнивал культуру с органическим существом, которое рождается, нуждается в пище (человеческом хозяйстве), имеет «душу»; при этом культуру можно «пересадить» в другую почву (другие природные условия), где её развитие пойдёт иным путём и прочее. Фробениус также является автором концепции о двух типах культур — хтоническо-матриархальной и теллурическо-патриархальной.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Содержимое 4" descr="Лео Фробениус.jpg"/>
          <p:cNvPicPr/>
          <p:nvPr/>
        </p:nvPicPr>
        <p:blipFill>
          <a:blip r:embed="rId2">
            <a:alphaModFix amt="70000"/>
          </a:blip>
          <a:stretch/>
        </p:blipFill>
        <p:spPr>
          <a:xfrm>
            <a:off x="6000840" y="1643040"/>
            <a:ext cx="2928960" cy="4834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2:26:17Z</dcterms:created>
  <dc:creator>Игорь</dc:creator>
  <dc:description/>
  <dc:language>en-US</dc:language>
  <cp:lastModifiedBy>User</cp:lastModifiedBy>
  <dcterms:modified xsi:type="dcterms:W3CDTF">2014-05-29T08:36:06Z</dcterms:modified>
  <cp:revision>37</cp:revision>
  <dc:subject/>
  <dc:title>Слайд 1</dc:title>
</cp:coreProperties>
</file>